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6156360" y="6237360"/>
            <a:ext cx="322200" cy="250920"/>
          </a:xfrm>
          <a:custGeom>
            <a:avLst/>
            <a:gdLst>
              <a:gd name="textAreaLeft" fmla="*/ 16200 w 322200"/>
              <a:gd name="textAreaRight" fmla="*/ 306000 w 32220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27727" h="21600">
                <a:moveTo>
                  <a:pt x="0" y="0"/>
                </a:moveTo>
                <a:lnTo>
                  <a:pt x="27727" y="0"/>
                </a:lnTo>
                <a:lnTo>
                  <a:pt x="27727" y="21600"/>
                </a:lnTo>
                <a:lnTo>
                  <a:pt x="0" y="21600"/>
                </a:lnTo>
                <a:close/>
              </a:path>
              <a:path fill="lightenLess" w="27727" h="21600">
                <a:moveTo>
                  <a:pt x="0" y="0"/>
                </a:moveTo>
                <a:lnTo>
                  <a:pt x="27727" y="0"/>
                </a:lnTo>
                <a:lnTo>
                  <a:pt x="26327" y="1400"/>
                </a:lnTo>
                <a:lnTo>
                  <a:pt x="1400" y="1400"/>
                </a:lnTo>
                <a:close/>
              </a:path>
              <a:path fill="darken" w="27727" h="21600">
                <a:moveTo>
                  <a:pt x="27727" y="0"/>
                </a:moveTo>
                <a:lnTo>
                  <a:pt x="27727" y="21600"/>
                </a:lnTo>
                <a:lnTo>
                  <a:pt x="26327" y="20200"/>
                </a:lnTo>
                <a:lnTo>
                  <a:pt x="26327" y="1400"/>
                </a:lnTo>
                <a:close/>
              </a:path>
              <a:path fill="darkenLess" w="27727" h="21600">
                <a:moveTo>
                  <a:pt x="27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27" y="20200"/>
                </a:lnTo>
                <a:close/>
              </a:path>
              <a:path fill="lighten" w="27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27" h="21600">
                <a:moveTo>
                  <a:pt x="6857" y="10800"/>
                </a:moveTo>
                <a:lnTo>
                  <a:pt x="20870" y="3794"/>
                </a:lnTo>
                <a:lnTo>
                  <a:pt x="208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7451640" y="623736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3794"/>
                </a:moveTo>
                <a:lnTo>
                  <a:pt x="21454" y="10800"/>
                </a:lnTo>
                <a:lnTo>
                  <a:pt x="74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zza del Duomo di Spol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787920" cy="2516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2852640"/>
            <a:ext cx="347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duomo fu eretto in forme romaniche nel XII secolo.Nel 1500 fu aggiunto il portico o pronao.Gli interni furono rifatti nel 16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64000" y="2421000"/>
            <a:ext cx="2014560" cy="3025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no con pavimento cosmate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1960560" cy="2952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omo di Spol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049640" cy="2687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olare dei ros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4265640" cy="283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aico della facc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932280" cy="261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olare della facc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0360" y="2781360"/>
            <a:ext cx="4076640" cy="2708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olare del pron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43280" y="2997360"/>
            <a:ext cx="3744720" cy="2487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taglio del pron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2211480" cy="3332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olare della facc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786120" y="2708280"/>
            <a:ext cx="2009880" cy="3025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o secentesco del Du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00:09Z</dcterms:created>
  <dc:creator>damiano</dc:creator>
  <dc:description/>
  <dc:language>en-US</dc:language>
  <cp:lastModifiedBy>damiano</cp:lastModifiedBy>
  <dcterms:modified xsi:type="dcterms:W3CDTF">2007-09-19T12:00:09Z</dcterms:modified>
  <cp:revision>6</cp:revision>
  <dc:subject/>
  <dc:title>Piazza del Duomo di Spoleto</dc:title>
</cp:coreProperties>
</file>